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80880" y="533520"/>
            <a:ext cx="8305920" cy="5084640"/>
          </a:xfrm>
          <a:prstGeom prst="rect">
            <a:avLst/>
          </a:prstGeom>
          <a:noFill/>
          <a:ln w="0">
            <a:noFill/>
          </a:ln>
        </p:spPr>
        <p:style>
          <a:lnRef idx="0"/>
          <a:fillRef idx="0"/>
          <a:effectRef idx="0"/>
          <a:fontRef idx="minor"/>
        </p:style>
        <p:txBody>
          <a:bodyPr lIns="90000" rIns="90000" tIns="46800" bIns="46800" anchor="t">
            <a:spAutoFit/>
          </a:bodyPr>
          <a:p>
            <a:pPr marL="401760" algn="ctr" rtl="1">
              <a:spcBef>
                <a:spcPts val="1500"/>
              </a:spcBef>
              <a:tabLst>
                <a:tab algn="l" pos="0"/>
                <a:tab algn="l" pos="7545240"/>
                <a:tab algn="l" pos="7947000"/>
                <a:tab algn="l" pos="8229600"/>
                <a:tab algn="l" pos="9144000"/>
                <a:tab algn="l" pos="10058400"/>
              </a:tabLst>
            </a:pPr>
            <a:r>
              <a:rPr b="1" lang="ar-SA" sz="2400" spc="-1" strike="noStrike">
                <a:solidFill>
                  <a:srgbClr val="ffffff"/>
                </a:solidFill>
                <a:latin typeface="Times New Roman"/>
                <a:cs typeface="Times New Roman (Arabic)"/>
              </a:rPr>
              <a:t>الفصل الرابع: الأصول غير المتداولة غير الملموسة</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 ما يلى:</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38</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أصول غير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الملموسة"</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مشاكل المحاسبيه عن شهرة المحل طبقا لمتطلبات المعيار المحاسبى الدولى رقم </a:t>
            </a:r>
            <a:r>
              <a:rPr b="0" lang="ar-SA" sz="2400" spc="-1" strike="noStrike">
                <a:solidFill>
                  <a:srgbClr val="ffffff"/>
                </a:solidFill>
                <a:latin typeface="Times New Roman"/>
                <a:ea typeface="Times New Roman (Arabic)"/>
              </a:rPr>
              <a:t>22</a:t>
            </a:r>
            <a:r>
              <a:rPr b="0" lang="ar-SA" sz="2400" spc="-1" strike="noStrike">
                <a:solidFill>
                  <a:srgbClr val="ffffff"/>
                </a:solidFill>
                <a:latin typeface="Times New Roman"/>
                <a:ea typeface="Times New Roman (Arabic)"/>
              </a:rPr>
              <a:t> "إندماج الأعمال</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04920" y="304920"/>
            <a:ext cx="8610480" cy="814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ستنفاذ</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تحميل القيمة القابلة للإهلاك المتعلقة بالاصل غير الملموس على أساس منتظم بناء على أفضل تقدير لعمره الإقتصادى المقدر. وهناك إفتراض قابل لإثبات العكس هو أن العمر الإقتصادى للأصل غير الملموس سوف لا يزيد عن </a:t>
            </a:r>
            <a:r>
              <a:rPr b="0" lang="ar-SA" sz="2400" spc="-1" strike="noStrike">
                <a:solidFill>
                  <a:srgbClr val="ffffff"/>
                </a:solidFill>
                <a:latin typeface="Times New Roman"/>
              </a:rPr>
              <a:t>20</a:t>
            </a:r>
            <a:r>
              <a:rPr b="0" lang="ar-SA" sz="2400" spc="-1" strike="noStrike">
                <a:solidFill>
                  <a:srgbClr val="ffffff"/>
                </a:solidFill>
                <a:latin typeface="Times New Roman"/>
              </a:rPr>
              <a:t> عاما من التاريخ الذى أصبح فيه الأصل متاحا للإستخدا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ؤخذ الإعتبارات التالية عند تقدير العمر الإقتصادى للأص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إستخدام المتوقع للأصل بواسطة المنشا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معلومات المتاحة عن الأعمار الإقتصادية للأصول المشابه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تقادم الفنى والتصرفات المتوقعه من المنافسين الحاليين والمرتقبين.</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مستوى نفقات الصيانه والقيود القانونية على إستخدام الأصل (شروط عقود الإستخدا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ما إذا كان العمر الإقتصادى يعتمد على الأعمار الإقتصادية لأصول أخرى فى المنشا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مراجعة كل من فترة الإستنفاذ وطريقته فى تاريخ كل ميزانية ويتم تغييرهما عند الضرورة وتتم المحاسبة عن أى تغيير كما هو متبع بالنسبة للأصول ال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1413000"/>
            <a:ext cx="838224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يمة المتبق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إفتراض أن القيمة المتبقية للأصل غير الملموس تساوى صفرا ما لم:</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يكون هناك إلتزام من طرف آخر بشراء الأصل فى نهاية عمره الإقتصادى. أو</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يوجد سوق نشط لهذا النوع من الأصول غير الملموسة ومن المحتمل وجوده فى نهاية حياة الأصل الإقتصادية وبالتالى يمكن قياس القيمة المتبقية بشكل يمكن الإعتماد عليه بالرجوع لهذا السوق.</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457200" y="1260360"/>
            <a:ext cx="80010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خسائر إنخفاض القيم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قا لمعيار المحسبة رقم </a:t>
            </a:r>
            <a:r>
              <a:rPr b="0" lang="ar-SA" sz="2400" spc="-1" strike="noStrike">
                <a:solidFill>
                  <a:srgbClr val="ffffff"/>
                </a:solidFill>
                <a:latin typeface="Times New Roman"/>
              </a:rPr>
              <a:t>36</a:t>
            </a:r>
            <a:r>
              <a:rPr b="0" lang="ar-SA" sz="2400" spc="-1" strike="noStrike">
                <a:solidFill>
                  <a:srgbClr val="ffffff"/>
                </a:solidFill>
                <a:latin typeface="Times New Roman"/>
              </a:rPr>
              <a:t> "الإنخفاض فى قيمة الأصول:  يتم مراجعة كل الأصول غير المتداولة سواء الملموسة أو غير الملموسة لتحديد مؤشرات إنخفاض قيمة تلك الأصول، ولا تختلف المعالجة المحاسبية للإنخفاض فى قيمة الأصول غير الملموسة عن تلك التى تم التعرض لها فى معالجة الإنخفاض فى قيمة الأصول ال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457200" y="1031760"/>
            <a:ext cx="807732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تخنلف متطلبات الإفصاح بالنسبة للأصول غير الملموسة عنها للأصول الملموسة وبالتالى يتم الإفصاح عن الأعمار الإقتصادية المقدرة ، طرق الإستنفاذ المستخدمة ، إجمالى قيمة الأصول غير الملموسة ومجمع الإستنفاذ ومجمع إنخفاض القيمة ، والأعباء المحملة على قائمة الدخل، الإضافات والأستبعادات التى تمت على الأصول غير الملموسة وحركة وأرصدة فائض إعادة التقييم بحقوق الملكية وكذا مبالغ التعهدات المتعلقة بإقتناء أصول غير 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558720"/>
            <a:ext cx="82454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كا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ندرج تحت هذا المعيار تكاليف الأبحاث والتطوير التى تقوم بها المنشأة لحساب منشأة أخرى عندما يكون جوهر الإتفاق بينهما يظهر أن الأخطار والمنافع المرتبطة بنشاط البحوث والتطوير تنتقل أو سوف تنتقل الى المنشأة الأخرى حيث تعالج مثل تلك النفقات ضمن تكاليف المخزون أو العملاء أو عقود الإنشاء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اليف البحوث هى التكاليف التى تتكبدها المنشاة من إجراء فحص ودراسة من أجل إكتساب معرفة جديدة علمية أو فنية أو من أجل المزيد من التفهم والإستيعاب لهذه المعارف:</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أنشطة التى تهدف الى الحصول على معرفة جديد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بحث فى تطبيقات الإكتشافات الناتجة عن البحوث أو المعارف الأخر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بحث عن بديل لمنتج أو عملية معين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شكيل أو تصميم لمنتج معين محتمل جديد أو محسن أو لبدائل لعمليات التشغي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1066680"/>
            <a:ext cx="861048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اليف التطوير هلى ترجمة نتائج البحوث وغيرها من المعارف التى تم التوصل اليها وذلك فى صورة خطة أو تصميم ما وذلك بغرض إنتاج جديد أو محسن بشكل جوهرى لمواد أو أدوات أو منتجات أو عمليات أو أنظمة أو خدمات وكل ذلك قبل البدء فى الإنتاج على نطاق تجار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قييم البدائل لمنتجات أو عمليات تشغيل معين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صميم عدد وأدوات وإسطمبات متعلقة بتقنية جديد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صميم وتشييد مصانع خلال مرحلة التجارب وليس على نطاق مجدى إقتصادي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04920" y="1260360"/>
            <a:ext cx="83818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كونات 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تتضمن تكاليف الأبحاث والتطوير كافة التكاليف التى لها علاقة مباشرة بنشاط الأبحاث والتطوير أو التى يمكن تحميلها بطريقة منطقية معقولة مثل الأجور والمرتبات وتكلفة المواد الخام وإهلاك الأصول الثابتة والتكاليف الأخرى غير المباشرة. وفى هذا الإطار لا يجب أن تتضمن تكاليف الأبحاث والتطوير أى مصروفات بيع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228600" y="879480"/>
            <a:ext cx="845820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الجة المحاسبية ل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عتمد تحميل تكاليف الأبحاث والتطوير على الفترات المالية على العلاقة بين التكاليف والعائد الإقتصادى المتوقع منها للمنشأة. فعندما يكون من المحتمل بدرجة كبيرة تولد عائد إقتصادى مستقبلى من هذه التكاليف ويمكن تقدير هذه التكاليف بطريقة منطقية سليمة فيمكن الإعتراف بها كأصل من الأصو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طبيعة أنشطة البحوث أنه من الصعب الحصول على قناعة بوجود عائد إقتصادى مستقبلى منها وبالتالى يجب إثباتها كمصروفات فى الفترة التى تم تحمل التكاليف خلالها ولا يجب إثباتها كأصل فى الفترات اللاحق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228600" y="1108080"/>
            <a:ext cx="861048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معالجة المحاسبية ل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طبيعة أنشطة التطوير أنه يمكن فى بعض الأحوال وجود إحتمال للحصول على عائد إقتصادى منها وذلك لأن المنشاة تكون قد تعدت مرحلة البحث، وبناء عليه تعالج تكاليف التطوير كمصروفات فى الفترة التى تم تحمل التكاليف خلالها إلا إذا توافرت شروط الإعتراف بها كاصل على النحو التا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جدوى الفنية لإستكمال الأصل غير الملموس</a:t>
            </a:r>
            <a:r>
              <a:rPr b="0" lang="ar-EG"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نيتها فى إستكمال الأصل غير الملموس وإستخدامه أو بيع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قدرتها على إستخدام أو بيع الأصل غير الملموس.</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ولد منافع إقتصادية مستقبلية محتمل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وافر المواد الكافية لإستكمال مشروع 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قدرة على قياس النفقة المرتبطة بالأصل غير الملموس بطريقة يمكن الإعتماد عل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304920"/>
            <a:ext cx="8534520" cy="667764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معالجة المحاسبية لتكاليف الأبحاث والتطوير</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ى جميع الأحوال لا يجب أن تتعدى تكاليف التطوير المرسملة العائد الإقتصادى المتوقع منها  ( مبيعات المنتج المطور أو العملية التشغيلية أو التخفيض فى المصروفات والتكاليف).</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تحميل نفقات التطوير المرسملة على الفترات المالية إما بطريقة القسط الثابت (طريقة عادة تكون غير ملائمة) أو على أساس حجم المبيعات السنوية.</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الضرورى مراجعة العائج الإقتصادى المستقبلى المتوقع فى تاريخ كل ميزانية وفى الحالات إنتفاء الظروف التى بررت الرسملة فإنه يجب تحيمل النفقة فورا على قائمة الدخل.</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الإضافة الى متطلبات الإفصاح العامة المتعلقة بالاصول غير الملموسة يجب الإفصاح عن المبلغ الإجمالى المحمل كمصروف على قائمة الدخل فيما يتعلق بنفقات البحوث والتطوير. </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380880"/>
            <a:ext cx="8381880" cy="6197040"/>
          </a:xfrm>
          <a:prstGeom prst="rect">
            <a:avLst/>
          </a:prstGeom>
          <a:noFill/>
          <a:ln w="0">
            <a:noFill/>
          </a:ln>
        </p:spPr>
        <p:style>
          <a:lnRef idx="0"/>
          <a:fillRef idx="0"/>
          <a:effectRef idx="0"/>
          <a:fontRef idx="minor"/>
        </p:style>
        <p:txBody>
          <a:bodyPr lIns="90000" rIns="90000" tIns="46800" bIns="46800" anchor="t">
            <a:spAutoFit/>
          </a:bodyPr>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معيار المحاسبة الدولى رقم </a:t>
            </a:r>
            <a:r>
              <a:rPr b="1" lang="ar-SA" sz="2400" spc="-1" strike="noStrike">
                <a:solidFill>
                  <a:srgbClr val="ffffff"/>
                </a:solidFill>
                <a:latin typeface="Times New Roman"/>
                <a:ea typeface="Times New Roman (Arabic)"/>
              </a:rPr>
              <a:t>38</a:t>
            </a:r>
            <a:r>
              <a:rPr b="1" lang="ar-SA" sz="2400" spc="-1" strike="noStrike">
                <a:solidFill>
                  <a:srgbClr val="ffffff"/>
                </a:solidFill>
                <a:latin typeface="Times New Roman"/>
                <a:ea typeface="Times New Roman (Arabic)"/>
              </a:rPr>
              <a:t> "الأصول غير الملموسة"</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520560" indent="-5205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غطى المعيار المعالجة المحاسبية للأصول غير الملموسة والمعايير التي يجب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توافرها قبل الإعتراف بها.</a:t>
            </a:r>
            <a:endParaRPr b="0" lang="en-US" sz="2400" spc="-1" strike="noStrike">
              <a:solidFill>
                <a:srgbClr val="ffffff"/>
              </a:solidFill>
              <a:latin typeface="Times New Roman"/>
            </a:endParaRPr>
          </a:p>
          <a:p>
            <a:pPr marL="520560" indent="-5205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جموعة الأصول الي لا ينطبق عليها هذا المعيار تتمثل فى:</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شهرة المحل الناتجة عن إندماج الأعمال.</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الأصول الناتجة عن الضرائب المؤجلة.</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الإيجارات المتعلقة بأنشطة التأجير التمويلى</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الأصول الناتجة عن المزايا الخاصة بالموظفين</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حقوق التعدين وتكاليف إستخراج المعادن والبترول وما فى حكمها.</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80880" y="1413000"/>
            <a:ext cx="838224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كاليف تعديل برامج الحاسب الآلى الحا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تحميل النفقات التى تكبدتها المنشاة داخليا لتعديل برامج الحاسب الآلى الحالية (مثال: مشكلة عام </a:t>
            </a:r>
            <a:r>
              <a:rPr b="0" lang="ar-SA" sz="2400" spc="-1" strike="noStrike">
                <a:solidFill>
                  <a:srgbClr val="ffffff"/>
                </a:solidFill>
                <a:latin typeface="Times New Roman"/>
              </a:rPr>
              <a:t>2000</a:t>
            </a:r>
            <a:r>
              <a:rPr b="0" lang="ar-SA" sz="2400" spc="-1" strike="noStrike">
                <a:solidFill>
                  <a:srgbClr val="ffffff"/>
                </a:solidFill>
                <a:latin typeface="Times New Roman"/>
              </a:rPr>
              <a:t>) فورا على قائمة الدخل عند حدوثها بينما يجب الإعتراف بالنفقات عن العمل المؤدى بواسطة مقاولين خارجيين عندما يتم تنفيذ تلك الاعمال ويجب عدم رسملتها أيض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304920" y="1260360"/>
            <a:ext cx="8229600" cy="5580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شهرة المحل " المعيار المحاسبى الدولى </a:t>
            </a:r>
            <a:r>
              <a:rPr b="1" lang="ar-SA" sz="2400" spc="-1" strike="noStrike">
                <a:solidFill>
                  <a:srgbClr val="ffffff"/>
                </a:solidFill>
                <a:latin typeface="Times New Roman"/>
              </a:rPr>
              <a:t>22</a:t>
            </a:r>
            <a:r>
              <a:rPr b="1" lang="ar-SA" sz="2400" spc="-1" strike="noStrike">
                <a:solidFill>
                  <a:srgbClr val="ffffff"/>
                </a:solidFill>
                <a:latin typeface="Times New Roman"/>
              </a:rPr>
              <a:t> – إندماج الأعمال"</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طلب المعيار المحاسبى أن يتم رسملة وإستنفاذ الشهرة الناتجة عن الشراء على مدار عمرها الإقتصادى المتوقع.</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عرف الشهرة بأنها الفرق بين تكلفة قيمة الشركة ككل ومجموع القيمة العادلة لصافى أصولها المستقلة والتى تتمثل فى تلك الأصول والإلتزامات التى يمكن تحديدها وبيعها بشكل منفصل دون التخلص بالضرورة من الشركة ككل.</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كون للشهرة عمر إقتصادى محدود فكلما مر الزمن فإن سمعة الشركة والتى كانت موجودة ستفقد قيمتها ولذلك يتعين إستهلاك الشهرة المشتراه.</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457200" y="838080"/>
            <a:ext cx="82296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شهرة المحل " المعيار المحاسبى الدولى </a:t>
            </a:r>
            <a:r>
              <a:rPr b="1" lang="ar-SA" sz="2400" spc="-1" strike="noStrike">
                <a:solidFill>
                  <a:srgbClr val="ffffff"/>
                </a:solidFill>
                <a:latin typeface="Times New Roman"/>
              </a:rPr>
              <a:t>22</a:t>
            </a:r>
            <a:r>
              <a:rPr b="1" lang="ar-SA" sz="2400" spc="-1" strike="noStrike">
                <a:solidFill>
                  <a:srgbClr val="ffffff"/>
                </a:solidFill>
                <a:latin typeface="Times New Roman"/>
              </a:rPr>
              <a:t> – إندماج الأعم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مجرد إختيار سياسة الإستنفاذ يتم تطبيق ما ي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يجب عدم إعادة تقييم شهرة المحل المشتراه بما يؤدى الى زيادة قيمت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إذا كان هناك إنخفاض فى قيمة شهرة المحل فيجب تحميلة مباشرة على قائمة الدخ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ظهر الشهرة المشتراه ببند منفصل بالميزانية ضمن الأصول غير المتداول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هناك إفتراض ضمنى قابل لإثبات العكس أن العمر الإقتصادى للشهرة سوف لا يزيد عن </a:t>
            </a:r>
            <a:r>
              <a:rPr b="0" lang="ar-SA" sz="2400" spc="-1" strike="noStrike">
                <a:solidFill>
                  <a:srgbClr val="ffffff"/>
                </a:solidFill>
                <a:latin typeface="Times New Roman"/>
              </a:rPr>
              <a:t>20</a:t>
            </a:r>
            <a:r>
              <a:rPr b="0" lang="ar-SA" sz="2400" spc="-1" strike="noStrike">
                <a:solidFill>
                  <a:srgbClr val="ffffff"/>
                </a:solidFill>
                <a:latin typeface="Times New Roman"/>
              </a:rPr>
              <a:t> عاما من تاريخ الإعتراف الأو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عادة يجب إستخدام طريقة القسط الثابت للإستنفاذ.</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304920" y="1108080"/>
            <a:ext cx="84582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شهرة المحل السالب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نشأ شهرة المحل السالبة عندما تكون القيمة العادلة للأصول القابلة للتحديد المقتناه تزيد عن تكلفة الشراء أى ان هناك إشارة عن خسائر مستقبلية فى خطة المشتر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شهرة المحل السالبة كدخل فى قائمة الدخل عندما يتم الإعتراف بالخسائر والمصروفات المستقبلية للشركة المشتراه. وفى حالة شراء الأصول النقدية يمكن الإعتراف بمكاسب الشهرة السالبة فور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228600" y="1184400"/>
            <a:ext cx="8610480" cy="558036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دائل الخاصة بمعالجة شهرة المحل</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تحميل الشهرة كأصل يستنفذ على مدار العمر الإقتصادى من خلال قائمة الدخل ( الطريقة المطلوبة من المعيار).</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خصم شهرة المحل من الإحتياطيات عند الإقتناء.</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3</a:t>
            </a:r>
            <a:r>
              <a:rPr b="0" lang="ar-SA" sz="2400" spc="-1" strike="noStrike">
                <a:solidFill>
                  <a:srgbClr val="ffffff"/>
                </a:solidFill>
                <a:latin typeface="Times New Roman"/>
              </a:rPr>
              <a:t>) تحميل الشهرة كأصل دائم ما لم يصبح من الواضح وجود إنخفاض فى قيمته.</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4</a:t>
            </a:r>
            <a:r>
              <a:rPr b="0" lang="ar-SA" sz="2400" spc="-1" strike="noStrike">
                <a:solidFill>
                  <a:srgbClr val="ffffff"/>
                </a:solidFill>
                <a:latin typeface="Times New Roman"/>
              </a:rPr>
              <a:t>) معالجة الشهرة كحساب مدين معلق يظهر كتخفيض لمجوع رأس المال والإحتياطيات.</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5</a:t>
            </a:r>
            <a:r>
              <a:rPr b="0" lang="ar-SA" sz="2400" spc="-1" strike="noStrike">
                <a:solidFill>
                  <a:srgbClr val="ffffff"/>
                </a:solidFill>
                <a:latin typeface="Times New Roman"/>
              </a:rPr>
              <a:t>) تحويل الشهرة الى حساب إحتياطى إقفال مستقل.</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228600" y="304920"/>
            <a:ext cx="8458200" cy="701388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تعريفات</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أصول غير الملموسة هى أصول ليس لها كيان مادى ملموس ويتم الإحتفاظ بها للإستخدام فى إنتاج أو عرض السلع أو الخدمات أو التأجير للغير أو لأغراض إدارية ويكون من المنتظر إستخدامها لمدة تزيد عن فترة محاسبية واحدة.</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أصول ذات الطبيعة النقدية هى الأصول التى سيتم إستلامها بوحدات نقدية ثابته أو قابلة للتحديد.</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إستنفاذ هو التحميل المنتظم للقيمة القابلة للإهلاك الخاصة بأصل غير ملموس على مدار عمره الإقتصادى.</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قيمة القابلة للإهلاك هى تكلفة الأصل او أى قيمة أخرى للأصل تحل محل التكلفة فى القوائم المالية مخصوما منها القيمة المتبقية للأصل فى نهاية عمره الإقتصادى والتى تحدد فى تاريخ الإقتناء.</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عمر الإقتصادى هو:</a:t>
            </a:r>
            <a:endParaRPr b="0" lang="en-US" sz="2200" spc="-1" strike="noStrike">
              <a:solidFill>
                <a:srgbClr val="ffffff"/>
              </a:solidFill>
              <a:latin typeface="Times New Roman"/>
            </a:endParaRPr>
          </a:p>
          <a:p>
            <a:pPr marL="282600" indent="-28260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ea typeface="Times New Roman (Arabic)"/>
              </a:rPr>
              <a:t>	</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إما الفترة الزمنية التى يكون من المتوقع أن تستخدم المنشأة الأصل خلالها. أو</a:t>
            </a:r>
            <a:endParaRPr b="0" lang="en-US" sz="2200" spc="-1" strike="noStrike">
              <a:solidFill>
                <a:srgbClr val="ffffff"/>
              </a:solidFill>
              <a:latin typeface="Times New Roman"/>
            </a:endParaRPr>
          </a:p>
          <a:p>
            <a:pPr marL="282600" indent="-28260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ea typeface="Times New Roman (Arabic)"/>
              </a:rPr>
              <a:t>	</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عدد وحدات الإنتاج أو ما شابه ذلك والمتوقع الحصول عليها من الأصل بواسطة المنشأ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685800" y="609480"/>
            <a:ext cx="7772400" cy="543528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تعريفات</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تكلفة هى قيمة النقدية أو المقابل النقدى المدفوع أو القيمة العادلة لأصل آخر مقدم لإقتناء الأصل فى وقت إقتناءه أو إنتاجه.</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قيمة المتبقية هى صافى القيمة التى تتوقع المنشاة أن تحصل عليها من الأصل فى نهاية عمره الإقتصادى بعد خصم التكاليف المتوقعة للتخلص منه.</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قيمة العادلة للأصل هى القيمة التى يمكن مبادلة الأصل بها بين أطراف راغبة فى التبادل فى صفقة متكافئة وعلى علم بكافة الأمور المتعلقة بالصفقة.</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380880"/>
            <a:ext cx="8305920" cy="600660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تعريفات</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سوق النشط هو السوق التى تتوافر فيه الشروط التالية:</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تكون العناصر محل المتاجرة داخل سوق متجانسة.</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يوجد عادة بائعون ومشترون لديهم الرغبة فى أى وقت.</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الأسعار متاحة للجمهور.</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تمثل خسائر الإنخفاض فى القيمة التى تزيد بها القيمة التى يظهر بها الأصل عن القيمة الممكن إستردادها منه.</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قيمة التى يظهر بها الأصل هى الأصل القيمة بها فى الميزانية بعد خصم أى مجمع للإستنفاذ ومجمع خسائر إنخفاض القيمة المرتبطة به.</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762120" y="1108080"/>
            <a:ext cx="7467480" cy="5214600"/>
          </a:xfrm>
          <a:prstGeom prst="rect">
            <a:avLst/>
          </a:prstGeom>
          <a:noFill/>
          <a:ln w="0">
            <a:noFill/>
          </a:ln>
        </p:spPr>
        <p:style>
          <a:lnRef idx="0"/>
          <a:fillRef idx="0"/>
          <a:effectRef idx="0"/>
          <a:fontRef idx="minor"/>
        </p:style>
        <p:txBody>
          <a:bodyPr lIns="90000" rIns="90000" tIns="46800" bIns="46800" anchor="t">
            <a:spAutoFit/>
          </a:bodyPr>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عتراف والقياس الأولى</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744480" indent="-74448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الأصل غير الملموس كأصل إذا ، وإذا فقط:</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4480" indent="-74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كان من المحتمل أن تتدفق المنافع الإقتصادية المستقبلية المرتبطة           تماما بالأصل الى المنشأة. و</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يمكن قياس وتحديد الأصل غير الملموس مبدئيا بالتكلفة.</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2</a:t>
            </a:r>
            <a:r>
              <a:rPr b="0" lang="ar-SA"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يجب قياس الأصل غير الملموس عند الإعتراف الأولى بالتكلفة.</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118440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ياس اللاحق للإعتراف الأولى</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عالجة القياسية : وتتمثل فى تحميل الأصل غير الملموس بالتكلفة مخصوما منها مجمع الإستنفاذ وأى مجمع لخسائر إنخفاض القيم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المعالجة البديلة المسموح بها: وهى أن يعاد تقييم الاصل غير الملموس الى قيمته العادلة ويكون أساس الإستنفاذ اللاحق على ذلك هى القيمة المعاد تقييمها. وتستخدم هذه المعالجة إذا توفر ت الشروط التال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إذا كان من الممكن قياس القيمة العادلة للأصل بشكل يمكن الإعتماد عليه بالرجوع الى السوق النشط.</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يتم إعادة تقييم كل العناصر غير الملموسة من نفس النوع.</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تتكرر عمليات إعادة التقييم بشكل كافى لضمان ظهور قيمة الأصل بقيمة لا تختلف جوهريا عن قيمته العادل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304920"/>
            <a:ext cx="8458200" cy="667764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قياس اللاحق للإعتراف الأولى</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يستبعد المعيار المحاسبى كل من العلامات التجارية وأسماء الصحف وحقوق نشر الأفلام والموسيقى وحقوق الإختراع والعلامات التجارية من عملية إعادة التقييم على أساس أنه لا يوجد سوق نشط بالنسبة لها.</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عند إستخدام المعالجة البديلة المسموح بها للقياس اللاحق للأصول غير الملموسة يعالج أى مجمع للإستنفاذ بنفس الأسلوب المتبع لمعالجة مجمع الإهلاك للأصول الملموسة :</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إما أن يعاد تقييمه بالنسبة والتناسب مع تغيير إجمالى القيمة التى يظهر بها الأصل. أو</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يخصم من إجمالى القيمة ويعاد تقييم صافى الأصل الى القيمة المعاد تقييم الأصل بها.</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3</a:t>
            </a:r>
            <a:r>
              <a:rPr b="0" lang="ar-SA" sz="2400" spc="-1" strike="noStrike">
                <a:solidFill>
                  <a:srgbClr val="ffffff"/>
                </a:solidFill>
                <a:latin typeface="Times New Roman"/>
              </a:rPr>
              <a:t>) الزيادة أو الإنخفاض الناتج عن إعادة التقييم تعالج بنفس الأسس المتبعة عند معالجة فائض أو عجز تقييم الأصول الملموسة.</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457200" y="1184400"/>
            <a:ext cx="800100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صول غير الملموسة التى يتم الحصول عليها داخلي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ستبعد المعيار إحتمال رسملة بعض أنواع الأصول غير الملموسة التى يتم الحصول عليها داخليا طالما أن معايير الإعتراف بها متوافر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شهرة المحل والعلامات التجارية وأسماء الصحف وعناوين النشر وقوائم العملاء التى يتم تنميتها داخليا.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00:34:00Z</dcterms:created>
  <dc:creator>Administrator</dc:creator>
  <dc:description/>
  <dc:language>en-US</dc:language>
  <cp:lastModifiedBy>Administrator</cp:lastModifiedBy>
  <dcterms:modified xsi:type="dcterms:W3CDTF">2004-04-08T02:03:05Z</dcterms:modified>
  <cp:revision>18</cp:revision>
  <dc:subject/>
  <dc:title>PowerPoint Presentation</dc:title>
</cp:coreProperties>
</file>